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4AE-FC33-4CA2-9991-EB4E3DB5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345-6E4C-49F8-B322-C2AB0887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30E-3A7F-4D32-BB86-BF44119F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FD5-A50B-4376-9BBA-291B9AE8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206-6FAF-4CED-9DBD-D1BDCCD6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51D-AAD8-4C24-B952-97C0F816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F41-5F0A-43B6-A8F8-C3B1518E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EBD-CD45-4816-A0CE-C97743A9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B8B-3525-4641-BFFB-C7E28B22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AAE-7CC7-4076-88F7-FD8F583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66A-9FEE-4722-AE84-0C9CEBC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75D-323C-4835-BD70-B137FE25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D5B-6420-42BD-84D2-8C1FDA6E4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ppalach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Heart of Who 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673800">
            <a:off x="428760" y="358560"/>
            <a:ext cx="2931840" cy="210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735400">
            <a:off x="5562360" y="4343040"/>
            <a:ext cx="3139920" cy="1973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3301920" cy="215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510552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tereotypes Associated with People from Appalach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unning water in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e-foot and pregn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s on blocks in 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510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33720" y="2057400"/>
            <a:ext cx="419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illbi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dn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ountaine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&amp; Appalachian Americans (we prefer just plain Americ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572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People from This Area Have Been Called</a:t>
            </a: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ultu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amily Solida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yalty runs deep, extends beyond immediate family, “blood is thicker than wa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rce Individu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spitality, pride, self-reliance, neighbor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38720" y="17413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ultural Characteristic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 Gender Roles (men &amp; women assume specific roles in the family, church, and work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es to the Land (love the environment and their ho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510600">
            <a:off x="375840" y="38653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0713800">
            <a:off x="5341680" y="3573000"/>
            <a:ext cx="3276360" cy="2603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re Cultu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nse of Fatalism (belief that events in life are determined by powers beyond one’s control - - G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490800">
            <a:off x="2057400" y="1600200"/>
            <a:ext cx="4495680" cy="2338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Even More Cultur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tri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ve US flag,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nse of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y seem dour, but laughs at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desty &amp; Being One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ne should not put on airs or get above their ra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725200">
            <a:off x="838080" y="4571640"/>
            <a:ext cx="3810240" cy="1832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457400">
            <a:off x="719280" y="1652760"/>
            <a:ext cx="3047760" cy="286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0:34:27Z</dcterms:created>
  <dc:creator>Bill </dc:creator>
  <dc:description/>
  <dc:language>en-US</dc:language>
  <cp:lastModifiedBy>Faculty</cp:lastModifiedBy>
  <dcterms:modified xsi:type="dcterms:W3CDTF">2008-08-27T17:38:30Z</dcterms:modified>
  <cp:revision>3</cp:revision>
  <dc:subject/>
  <dc:title>Appalachia </dc:title>
</cp:coreProperties>
</file>